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684D-57EF-4DD6-B44C-5E1C1BED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32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F26D-A635-445F-85CA-2EEA3FFD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590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632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0590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6D7-C9C0-4A0D-B45D-0267A6D4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0432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196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632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0432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33196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BD4D-2957-46CB-80C3-023382DF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7DF5-98B2-4D65-8EA0-52618443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3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CFF8-9E09-486B-AEC8-2D17BAD0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7713-F76D-45B0-B4AD-BA12FCE5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590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C2D8-D1C5-402D-B54C-0F3627B5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12D5-5B12-4174-A2FE-D57FC6D8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3CCC-5F2C-4BB2-A8EC-0E974B34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590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32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7C7A-80E1-43B7-AE49-D8CB6069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63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3FC7-3894-4A24-8FF7-A20F177F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590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0590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A03E-D67A-4E59-9775-C5C4AC51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590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32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B7DC-F449-4C2B-9409-F82DCD04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32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B079-4308-4415-AE62-FEA37D47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590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32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0590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9AC6-6919-4C40-921F-CB65B15A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70432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196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32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70432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33196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2160-8E2D-4BA9-8963-CE4DB445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1626-D334-4A02-B203-B6E04B99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590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5508-3C37-4214-9967-3AC4A7E8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A0FB-F45F-458D-8EA7-5E1F22AA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AAC5-4272-4CF7-A1EE-D3A9D8FC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590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32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47F8-B933-4229-8259-EBB186A0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590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0590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318-C358-4366-82C4-BE15154E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0590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32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89D2-8610-4304-BF6E-AAEF838F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483c0"/>
                </a:gs>
                <a:gs pos="100000">
                  <a:srgbClr val="003399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08AB-B0B2-460F-A3DD-FA866DF94F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763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990720"/>
            <a:ext cx="464832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1066680"/>
            <a:ext cx="464832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8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4469b3"/>
                </a:gs>
                <a:gs pos="100000">
                  <a:srgbClr val="0033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B730-7E1F-432C-8A21-A446A62965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Costa+Rica/v=2/SID=e/l=II/R=18/*-http://images.search.yahoo.com/search/images/view?back=http%3A//images.search.yahoo.com/search/images%3Fp=Costa%2BRica&amp;h=648&amp;w=434&amp;imgcurl=www.goldbergmcduffie.com/projects/letsgo/costa%2520rica.jpg&amp;imgurl=www.goldbergmcduffie.com/projects/letsgo/costa%2520rica.jpg&amp;name=%3Cb%3Ecosta%3C/b%3E+%3Cb%3Erica%3C/b%3E.jpg&amp;p=Costa+Rica&amp;rurl=http%3A//www.goldbergmcduffie.com/projects/letsgo/jacket_letsgo.html&amp;rcurl=http%3A//www.goldbergmcduffie.com/projects/letsgo/jacket_letsgo.html&amp;type=&amp;no=18&amp;tt=203,000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4648320"/>
            <a:ext cx="1351080" cy="2009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san"/>
          <p:cNvPicPr/>
          <p:nvPr/>
        </p:nvPicPr>
        <p:blipFill>
          <a:blip r:embed="rId3"/>
          <a:stretch/>
        </p:blipFill>
        <p:spPr>
          <a:xfrm>
            <a:off x="228600" y="5029200"/>
            <a:ext cx="2743200" cy="1660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5640" y="-22860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icking a 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ost-Graduate Vacatio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19560" y="5486400"/>
            <a:ext cx="2514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lini Ami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ndy Echeverri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bbie Le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liana Sirotzk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5" name="" descr="kaanapali1.jpg (13264 bytes)"/>
          <p:cNvPicPr/>
          <p:nvPr/>
        </p:nvPicPr>
        <p:blipFill>
          <a:blip r:embed="rId4"/>
          <a:stretch/>
        </p:blipFill>
        <p:spPr>
          <a:xfrm>
            <a:off x="1295280" y="3352680"/>
            <a:ext cx="2438640" cy="1830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52280" y="2057400"/>
            <a:ext cx="166392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Enhancements &amp; Limitation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362320" y="4114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tion doesn’t take into account all the other activities that are avail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c time perio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to the four frie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523880"/>
            <a:ext cx="2514600" cy="1981440"/>
          </a:xfrm>
          <a:prstGeom prst="rect">
            <a:avLst/>
          </a:prstGeom>
          <a:gradFill rotWithShape="0">
            <a:gsLst>
              <a:gs pos="0">
                <a:srgbClr val="a5b7da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4038480"/>
            <a:ext cx="2514600" cy="1981440"/>
          </a:xfrm>
          <a:prstGeom prst="rect">
            <a:avLst/>
          </a:prstGeom>
          <a:gradFill rotWithShape="0">
            <a:gsLst>
              <a:gs pos="0">
                <a:srgbClr val="a5b7da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220968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hanc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472428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137160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lvl="1" marL="267480" indent="-102600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more locations and preferenc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67480" indent="-102600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reak-out options into more detail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67480" indent="-1026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(i.e. amount spend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67480" indent="-102600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ckage location with all activities and cos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67480" indent="-102600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utility requireme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ot everyone’s personal utility is maximized…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0880" y="2819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99"/>
                </a:solidFill>
                <a:latin typeface="Arial"/>
              </a:rPr>
              <a:t>Q&amp;A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odel Inpu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nhancements &amp; Limita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Q&amp;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e Proble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752480"/>
            <a:ext cx="8001000" cy="1447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3124080"/>
            <a:ext cx="8001000" cy="1447920"/>
          </a:xfrm>
          <a:prstGeom prst="rect">
            <a:avLst/>
          </a:prstGeom>
          <a:solidFill>
            <a:srgbClr val="0033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4495680"/>
            <a:ext cx="8001000" cy="1447920"/>
          </a:xfrm>
          <a:prstGeom prst="rect">
            <a:avLst/>
          </a:prstGeom>
          <a:solidFill>
            <a:srgbClr val="00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315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friends want to go on vacation together after they graduate from Stern…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ant to go away together and have managed to narrow their locations to four option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given they have different preferences, how do they find common ground?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olution… A decision model!!!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4876920"/>
            <a:ext cx="685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hile satisfying personal preferenc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nd maximizing vacation requirement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s well as estimating desired spend level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1219320"/>
            <a:ext cx="3733560" cy="365760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001e5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1905120"/>
            <a:ext cx="32767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ise a model that will maximize total group ut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Model Inputs…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8600" y="1600200"/>
          <a:ext cx="8534520" cy="4038480"/>
        </p:xfrm>
        <a:graphic>
          <a:graphicData uri="http://schemas.openxmlformats.org/drawingml/2006/table">
            <a:tbl>
              <a:tblPr/>
              <a:tblGrid>
                <a:gridCol w="1973160"/>
                <a:gridCol w="1836720"/>
                <a:gridCol w="1741680"/>
                <a:gridCol w="1492200"/>
                <a:gridCol w="1490760"/>
              </a:tblGrid>
              <a:tr h="100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Lo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sired Spe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ctivit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umbe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of 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irline Mi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</a:tr>
              <a:tr h="303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sta R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an Francis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ham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&lt;$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$1,000-$1,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$1,750-$2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&gt;$2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ea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Gambl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Hik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useums Shopp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ater Sports Wine Tas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meric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ntinen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l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Uni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1143000"/>
            <a:ext cx="4648320" cy="5486400"/>
          </a:xfrm>
          <a:prstGeom prst="rect">
            <a:avLst/>
          </a:prstGeom>
          <a:solidFill>
            <a:srgbClr val="ffff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User Inpu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409720" y="2286000"/>
            <a:ext cx="2590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Amount spend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Type of activit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Frequent flyer mil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ength of tri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4367160" cy="5257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952880" y="1143000"/>
            <a:ext cx="381240" cy="5486400"/>
          </a:xfrm>
          <a:custGeom>
            <a:avLst/>
            <a:gdLst>
              <a:gd name="textAreaLeft" fmla="*/ 0 w 381240"/>
              <a:gd name="textAreaRight" fmla="*/ 137520 w 38124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523880"/>
            <a:ext cx="9144000" cy="4267440"/>
          </a:xfrm>
          <a:prstGeom prst="rect">
            <a:avLst/>
          </a:prstGeom>
          <a:solidFill>
            <a:srgbClr val="ffff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Our model: Conjoint Analysi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90676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477120" y="5302080"/>
            <a:ext cx="1981080" cy="13716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1143000"/>
            <a:ext cx="4343400" cy="39625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Our constrain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8102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locations…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 not meet activity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visited for short time perio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quire a minimum spend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67080" y="1295280"/>
            <a:ext cx="4064040" cy="3686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553080" y="5378400"/>
            <a:ext cx="1832040" cy="1403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371600" y="5486400"/>
            <a:ext cx="510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itionally, the sum of binary scores for the respective inputs had to equal 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olver Set-up and Observation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5715000" cy="3216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562720" y="2819520"/>
            <a:ext cx="3504960" cy="2984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320" y="2590920"/>
            <a:ext cx="1828800" cy="182880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4724280"/>
            <a:ext cx="1828800" cy="45720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6T13:35:02Z</dcterms:created>
  <dc:creator>Stern School of Business</dc:creator>
  <dc:description/>
  <dc:language>en-US</dc:language>
  <cp:lastModifiedBy>Prashun</cp:lastModifiedBy>
  <cp:lastPrinted>2000-09-27T15:49:02Z</cp:lastPrinted>
  <dcterms:modified xsi:type="dcterms:W3CDTF">2004-04-24T22:17:16Z</dcterms:modified>
  <cp:revision>51</cp:revision>
  <dc:subject/>
  <dc:title>Why consistency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3250448</vt:r8>
  </property>
  <property fmtid="{D5CDD505-2E9C-101B-9397-08002B2CF9AE}" pid="3" name="_AuthorEmail">
    <vt:lpwstr>del241@stern.nyu.edu</vt:lpwstr>
  </property>
  <property fmtid="{D5CDD505-2E9C-101B-9397-08002B2CF9AE}" pid="4" name="_AuthorEmailDisplayName">
    <vt:lpwstr>Debbie Lee</vt:lpwstr>
  </property>
  <property fmtid="{D5CDD505-2E9C-101B-9397-08002B2CF9AE}" pid="5" name="_EmailSubject">
    <vt:lpwstr>Final Project_Vacation.ppt</vt:lpwstr>
  </property>
  <property fmtid="{D5CDD505-2E9C-101B-9397-08002B2CF9AE}" pid="6" name="_ReviewingToolsShownOnce">
    <vt:lpwstr/>
  </property>
</Properties>
</file>